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CFA-9F1F-41F1-9080-CD2FE6F0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E59-8747-4247-97A9-9D64791D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160-4357-44CC-A9C9-A6177443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AEF-FEFC-44B5-87BC-56553B27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712-7882-4300-84A7-40B174BB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EC15-9517-40E0-ABA2-EF2F2074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9EE5-736D-43AA-B7D2-CEA52689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9B6-4A22-4833-9468-06F697E2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855-C0BA-447B-BDE8-AB2CF8A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E5D-BD10-42BE-AEB1-175755F2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9CB-7050-4819-A9FB-2026349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C7E-6F67-4203-AC66-5350E36D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450F-142B-49A6-969F-E80C4DD21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t Notes 11/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ice, dust, and small rocky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s: long, narrow ellipt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ly visible when near the sun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ightest part of come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omet hea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close to sun &amp; heats 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il of gas and d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scribed as "dirty snowballs" or "icy mudball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67320" y="160020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5:16:38Z</dcterms:created>
  <dc:creator>skrial</dc:creator>
  <dc:description/>
  <dc:language>en-US</dc:language>
  <cp:lastModifiedBy>skrial</cp:lastModifiedBy>
  <dcterms:modified xsi:type="dcterms:W3CDTF">2009-11-14T15:17:02Z</dcterms:modified>
  <cp:revision>1</cp:revision>
  <dc:subject/>
  <dc:title>Slide 1</dc:title>
</cp:coreProperties>
</file>